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44C-6272-4ED8-98A0-EF4D803C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877-E02B-4A26-BA6A-5448A60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DE3-6851-4C18-B787-478819BB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EC8-ED4C-407D-8A66-F08F2A15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673-3280-4002-BE91-D79885F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27B-37EF-406A-8CAF-5D78A7B3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553-19BC-47A2-B737-A7D79E02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696-ABEE-4310-B7ED-5665C229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52C-E704-45E3-AFBF-A5C684B5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5B4-4C4D-478F-BAF0-D565078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096-388E-4745-9C08-CF26D42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D33-61BF-4C63-91F6-14A24D9F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4F3-F988-4288-8E81-49E643B97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1981080"/>
            <a:ext cx="5886360" cy="66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rth American Tall Tales contain a glorious mixture of the humor, bravado, and a pioneer spirit that was needed to tame a wilderness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Brown and Benchmark,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Children’s Literature in the Elementary School,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ggerated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ckwood exploits of American frontiers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riginated in the 18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http://www.infopleas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04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merican Tall 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my Baringer, Susan Dodwell, Tara Fior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indy Novak, Jennifer Sturg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14619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518148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16:08:38Z</dcterms:created>
  <dc:creator>AACPS User</dc:creator>
  <dc:description/>
  <dc:language>en-US</dc:language>
  <cp:lastModifiedBy>Dodwell</cp:lastModifiedBy>
  <dcterms:modified xsi:type="dcterms:W3CDTF">2006-06-26T20:57:43Z</dcterms:modified>
  <cp:revision>2</cp:revision>
  <dc:subject/>
  <dc:title>Slide 1</dc:title>
</cp:coreProperties>
</file>